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1EC-AA18-40E7-AE68-24F0FE4A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B69-16A4-45DB-A501-61D5F89E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F2F-5112-4F6C-852A-37547481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EDE-26AA-416A-AB01-9B2B208B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37E-204F-447D-99BD-17A4A4D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DF9-5CEC-4676-8D22-0406220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B9C-165F-4E93-B505-AB76134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3B9-59E8-48F7-BB07-BB8A26EF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0D3-BDF6-4BDB-BCAA-6868A53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6ED-44AD-41D6-ACF2-0E834DD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738-EBDC-42E0-9B34-A866754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170-B2FA-40A7-9F00-970F4F1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F9B-2169-4B51-AE65-58F763EC10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42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52480"/>
            <a:ext cx="8229600" cy="609840"/>
          </a:xfrm>
          <a:prstGeom prst="rightArrow">
            <a:avLst>
              <a:gd name="adj1" fmla="val 100000"/>
              <a:gd name="adj2" fmla="val 116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288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3300"/>
                </a:solidFill>
                <a:latin typeface="Tahoma"/>
              </a:rPr>
              <a:t>D e c o r s o      d e l l a       m a l a t t i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3720" y="5700600"/>
            <a:ext cx="2695680" cy="1522080"/>
          </a:xfrm>
          <a:prstGeom prst="roundRect">
            <a:avLst>
              <a:gd name="adj" fmla="val 16667"/>
            </a:avLst>
          </a:prstGeom>
          <a:solidFill>
            <a:srgbClr val="2828a2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Tahoma"/>
              </a:rPr>
              <a:t>fattori psic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3314880"/>
            <a:ext cx="1905120" cy="914400"/>
          </a:xfrm>
          <a:prstGeom prst="ellipse">
            <a:avLst/>
          </a:prstGeom>
          <a:solidFill>
            <a:srgbClr val="ffe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3300"/>
                </a:solidFill>
                <a:latin typeface="Tahom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048120"/>
            <a:ext cx="2362320" cy="1447560"/>
          </a:xfrm>
          <a:prstGeom prst="ellipse">
            <a:avLst/>
          </a:prstGeom>
          <a:solidFill>
            <a:srgbClr val="ffe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3276720"/>
            <a:ext cx="1905120" cy="914400"/>
          </a:xfrm>
          <a:prstGeom prst="ellipse">
            <a:avLst/>
          </a:prstGeom>
          <a:solidFill>
            <a:srgbClr val="ffe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5f52"/>
                </a:solidFill>
                <a:latin typeface="Tahoma"/>
              </a:rPr>
              <a:t>de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0"/>
            <a:endCxn id="50" idx="4"/>
          </p:cNvCxnSpPr>
          <p:nvPr/>
        </p:nvCxnSpPr>
        <p:spPr>
          <a:xfrm flipV="1" rot="16200000">
            <a:off x="2255400" y="3574080"/>
            <a:ext cx="1471680" cy="2781720"/>
          </a:xfrm>
          <a:prstGeom prst="bentConnector3">
            <a:avLst>
              <a:gd name="adj1" fmla="val 50477"/>
            </a:avLst>
          </a:prstGeom>
          <a:ln w="28440">
            <a:solidFill>
              <a:srgbClr val="b1a7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0"/>
            <a:endCxn id="51" idx="4"/>
          </p:cNvCxnSpPr>
          <p:nvPr/>
        </p:nvCxnSpPr>
        <p:spPr>
          <a:xfrm rot="16200000">
            <a:off x="3779280" y="5097960"/>
            <a:ext cx="1205280" cy="360"/>
          </a:xfrm>
          <a:prstGeom prst="bentConnector2">
            <a:avLst/>
          </a:prstGeom>
          <a:ln w="28440">
            <a:solidFill>
              <a:srgbClr val="b1a7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9" idx="0"/>
            <a:endCxn id="52" idx="4"/>
          </p:cNvCxnSpPr>
          <p:nvPr/>
        </p:nvCxnSpPr>
        <p:spPr>
          <a:xfrm flipH="1" flipV="1" rot="5400000">
            <a:off x="5340960" y="3231360"/>
            <a:ext cx="1509840" cy="3429360"/>
          </a:xfrm>
          <a:prstGeom prst="bentConnector3">
            <a:avLst>
              <a:gd name="adj1" fmla="val 50465"/>
            </a:avLst>
          </a:prstGeom>
          <a:ln w="28440">
            <a:solidFill>
              <a:srgbClr val="b1a7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447920" y="25146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d620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25146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d620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8380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620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62720" y="3733920"/>
            <a:ext cx="129528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61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709640"/>
            <a:ext cx="8076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5050"/>
                </a:solidFill>
                <a:latin typeface="Tahoma"/>
              </a:rPr>
              <a:t>Circa il 50% dei pazienti con malattie croniche e il 90% di quelli con malattie acute non assume i farmaci che gli sono stati prescri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L’adesione alla terapia tende ad essere più bas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d62002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quando i sintomi della malattia sono 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silenti (come nell’I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d62002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quando deve essere modificato lo stile di 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cffff"/>
                </a:solidFill>
                <a:latin typeface="Tahoma"/>
              </a:rPr>
              <a:t>v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219320"/>
            <a:ext cx="8381880" cy="5410080"/>
          </a:xfrm>
          <a:prstGeom prst="rect">
            <a:avLst/>
          </a:prstGeom>
          <a:gradFill rotWithShape="0">
            <a:gsLst>
              <a:gs pos="0">
                <a:srgbClr val="0e040f"/>
              </a:gs>
              <a:gs pos="100000">
                <a:srgbClr val="4a184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4a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Nonostante l’importanza del problema per la salute dei pazienti, i predittori della compliance sono difficili da individuare e non sono stati ancora abbastanza stud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scarse informazioni sui motivi per cui un farmaco viene prescritto, sulle modalità di assunzione, sugli effetti collat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remore religiose, culturali o ide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opposizione o scarsa collaborazione da parte dei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de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neg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ra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dffe8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moti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69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86200"/>
          </a:xfrm>
          <a:prstGeom prst="rect">
            <a:avLst/>
          </a:prstGeom>
          <a:gradFill rotWithShape="0">
            <a:gsLst>
              <a:gs pos="0">
                <a:srgbClr val="0e040f"/>
              </a:gs>
              <a:gs pos="100000">
                <a:srgbClr val="4a184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4a4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Nei pazienti traumatizzati dall’insorgenza di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malattie gravi ed acute</a:t>
            </a: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 (es. infarto del miocardio), i </a:t>
            </a:r>
            <a:r>
              <a:rPr b="0" lang="it-IT" sz="2800" spc="-1" strike="noStrike">
                <a:solidFill>
                  <a:srgbClr val="d63434"/>
                </a:solidFill>
                <a:latin typeface="Tahoma"/>
              </a:rPr>
              <a:t>meccanismi di evitamento</a:t>
            </a: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 inducono a non pensare alla malattia e, quindi, nemmeno alla c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In questi casi un’informazione corretta ed esauriente può ridurre i livelli d’ansia e, quindi, la neg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76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057400"/>
            <a:ext cx="8382240" cy="4191120"/>
          </a:xfrm>
          <a:prstGeom prst="rect">
            <a:avLst/>
          </a:prstGeom>
          <a:gradFill rotWithShape="0">
            <a:gsLst>
              <a:gs pos="0">
                <a:srgbClr val="0e040f"/>
              </a:gs>
              <a:gs pos="100000">
                <a:srgbClr val="4a184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4a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dffe8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Sia i medici che i pazienti dovrebbero sapere che una ridotta adesione ai trattam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è molto frequ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è una delle principali cause della mancata risposta ad un trat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dffe8"/>
                </a:solidFill>
                <a:latin typeface="Tahoma"/>
              </a:rPr>
              <a:t>è maggiore quanto più complesso è lo schema terapeu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83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228600"/>
            <a:ext cx="8531280" cy="990720"/>
            <a:chOff x="0" y="228600"/>
            <a:chExt cx="8531280" cy="990720"/>
          </a:xfrm>
        </p:grpSpPr>
        <p:sp>
          <p:nvSpPr>
            <p:cNvPr id="89" name=""/>
            <p:cNvSpPr/>
            <p:nvPr/>
          </p:nvSpPr>
          <p:spPr>
            <a:xfrm>
              <a:off x="304920" y="228600"/>
              <a:ext cx="438120" cy="474840"/>
            </a:xfrm>
            <a:prstGeom prst="rect">
              <a:avLst/>
            </a:prstGeom>
            <a:gradFill rotWithShape="0">
              <a:gsLst>
                <a:gs pos="0">
                  <a:srgbClr val="403047"/>
                </a:gs>
                <a:gs pos="100000">
                  <a:srgbClr val="8b69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533520"/>
              <a:ext cx="368280" cy="685800"/>
            </a:xfrm>
            <a:prstGeom prst="rect">
              <a:avLst/>
            </a:prstGeom>
            <a:gradFill rotWithShape="0">
              <a:gsLst>
                <a:gs pos="0">
                  <a:srgbClr val="df0175"/>
                </a:gs>
                <a:gs pos="100000">
                  <a:srgbClr val="66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609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838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144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Tahoma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Strategie per migliorare la compli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fornire adeguate 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informazioni</a:t>
            </a: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 sul farma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effetti attesi e meccanismo di 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effetti indesider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63434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modalità e durata del trat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fornire prescrizioni </a:t>
            </a:r>
            <a:r>
              <a:rPr b="0" lang="it-IT" sz="2800" spc="-1" strike="noStrike">
                <a:solidFill>
                  <a:srgbClr val="d63434"/>
                </a:solidFill>
                <a:latin typeface="Tahoma"/>
              </a:rPr>
              <a:t>semplici</a:t>
            </a:r>
            <a:r>
              <a:rPr b="0" lang="it-IT" sz="2800" spc="-1" strike="noStrike">
                <a:solidFill>
                  <a:srgbClr val="fbef7d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compatibili con le abitudini di vita del paz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coinvolgere i famili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Tahoma"/>
              </a:rPr>
              <a:t>lavorare sulla moti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17:08:14Z</dcterms:created>
  <dc:creator>Paolo Santonastaso</dc:creator>
  <dc:description/>
  <dc:language>en-US</dc:language>
  <cp:lastModifiedBy>Mario</cp:lastModifiedBy>
  <cp:lastPrinted>2002-12-08T21:50:38Z</cp:lastPrinted>
  <dcterms:modified xsi:type="dcterms:W3CDTF">2002-12-15T17:04:07Z</dcterms:modified>
  <cp:revision>62</cp:revision>
  <dc:subject/>
  <dc:title>prevalenza dei disturbi dell’alimentazione in Italia</dc:title>
</cp:coreProperties>
</file>